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C8B-F08A-4CC6-BB08-920F4231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532-B4BD-40DD-9F0E-5AB204C2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8FD-8185-4A9D-A8A4-17D20A40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622-1478-4786-A617-3AEB6942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54A4-2B7B-4BDB-9F8F-41C9788C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B571-CBA6-4F23-A6B9-91F0F59E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A845-8700-458F-9473-E0C6542E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68AA-1118-43C3-A83B-81A1489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69CF-142F-430B-AE4A-AA37AA34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605B-E57F-4E4F-9D82-F0E2DACC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A70C-1B92-44A0-9B92-B22036EB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D26-E2CD-44C5-AEA9-7152C784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1BD8-F2EB-421B-B19F-6AC7C500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44EF-5718-4350-86CC-66ED978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5AED-AC6E-4307-9DA0-E88B57E2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E898-4B4E-407C-8A0B-FA6589D0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ABE9-A20E-483A-BD66-1E160460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AB5-44B9-44D5-9E0A-F708DF3C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40A-8C1B-4944-9862-78504A75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AF9-E02A-4632-A3A1-40FF59D4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EC5-1137-4596-848E-EE83D575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CF8-BE38-4854-855B-85EB4422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B8A-D99A-4B30-8D62-3BE327F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D45-3AAF-47C4-A4A1-FF26EA71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3955-1B31-46EB-829A-8277150198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6400-0BE5-4543-8B59-07356B4BC6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usoft@bausoft.hu" TargetMode="External"/><Relationship Id="rId2" Type="http://schemas.openxmlformats.org/officeDocument/2006/relationships/hyperlink" Target="mailto:bausoft@bausoft.hu" TargetMode="External"/><Relationship Id="rId3" Type="http://schemas.openxmlformats.org/officeDocument/2006/relationships/hyperlink" Target="mailto:bausoft@bausoft.hu" TargetMode="External"/><Relationship Id="rId4" Type="http://schemas.openxmlformats.org/officeDocument/2006/relationships/hyperlink" Target="mailto:bausoft@bausoft.hu" TargetMode="External"/><Relationship Id="rId5" Type="http://schemas.openxmlformats.org/officeDocument/2006/relationships/hyperlink" Target="http://www.bausoft.hu/" TargetMode="External"/><Relationship Id="rId6" Type="http://schemas.openxmlformats.org/officeDocument/2006/relationships/hyperlink" Target="http://www.mmk.hu/" TargetMode="External"/><Relationship Id="rId7" Type="http://schemas.openxmlformats.org/officeDocument/2006/relationships/hyperlink" Target="http://www.mmk.hu/" TargetMode="External"/><Relationship Id="rId8" Type="http://schemas.openxmlformats.org/officeDocument/2006/relationships/hyperlink" Target="http://www.mmk.hu/" TargetMode="External"/><Relationship Id="rId9" Type="http://schemas.openxmlformats.org/officeDocument/2006/relationships/hyperlink" Target="http://www.mmk.hu/" TargetMode="External"/><Relationship Id="rId10" Type="http://schemas.openxmlformats.org/officeDocument/2006/relationships/hyperlink" Target="http://www.mek.hu/" TargetMode="External"/><Relationship Id="rId11" Type="http://schemas.openxmlformats.org/officeDocument/2006/relationships/hyperlink" Target="http://www.mek.hu/" TargetMode="External"/><Relationship Id="rId12" Type="http://schemas.openxmlformats.org/officeDocument/2006/relationships/hyperlink" Target="http://www.mek.hu/" TargetMode="External"/><Relationship Id="rId13" Type="http://schemas.openxmlformats.org/officeDocument/2006/relationships/hyperlink" Target="http://www.mek.hu/" TargetMode="External"/><Relationship Id="rId14" Type="http://schemas.openxmlformats.org/officeDocument/2006/relationships/hyperlink" Target="http://www.eeq.hu/" TargetMode="External"/><Relationship Id="rId1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Épületenergetikai szakértők vizsgáztatása, számítási példá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1828800"/>
            <a:ext cx="7010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aumann Józse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bausoft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bausoft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ausoft Pécsvárad Kft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nlap: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www.bausoft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93840" y="32004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zsgával kapcsolatos információ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3886200"/>
            <a:ext cx="74678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04/2006. (IV. 28.) Korm. rendelet a településtervezési és az építészeti-műszaki tervezési, valamint az építésügyi műszaki szakértői jogosultság szabályair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www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mmk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www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12"/>
              </a:rPr>
              <a:t>mek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13"/>
              </a:rPr>
              <a:t>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6666"/>
                </a:solidFill>
                <a:uFillTx/>
                <a:latin typeface="Times New Roman"/>
                <a:hlinkClick r:id="rId14"/>
              </a:rPr>
              <a:t>www.eeq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 falszerkezet hőátbocsátási tényezőj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411200" y="1893960"/>
                <a:ext cx="354168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47920" y="3733920"/>
                <a:ext cx="70880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68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lszerkezet hőátbocsátási tényezőjének számítása 2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1827000"/>
            <a:ext cx="74674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sa ki az alábbi rétegrendű padlásfödém hőátbocsátási tényezőjét! Vegye figyelembe a szerkezetben megadott hőhidak hatását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adatok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 fafödém az alábbi rétegekből épül fel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 cm deszka burkolat, λ=0,13 W/m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cm ásványgyapot, λ=0,04 W/m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5 cm PVC fólia, λ=0,1 W/m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m gipszburkolat, λ=0,24 W/m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ülső hőátadási tényező α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 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a belső hőátadási tényező α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 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ásványgyapot réteget 1 m-es távolságonként 5 cm szélességű, a szigetelés vastagsággal megegyező magasságú pallók/gerendák szakítják me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erenda hővezetési tényezője λ=0,14 W/mK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pallók/gerendák hatásának figyelembe vétele a hővezetési tényező korrekciójával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4240" y="1905120"/>
            <a:ext cx="46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llók keresztmetszete 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nké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06680" y="2438280"/>
                <a:ext cx="51750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3276720"/>
                <a:ext cx="72388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i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redő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i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i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er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er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i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e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00200" y="4191120"/>
                <a:ext cx="70102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</m:d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szerkezet hőátbocsátási tényezőj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477800" y="1751040"/>
                <a:ext cx="37036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85800" y="3886200"/>
                <a:ext cx="82296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ttó fűtési energiaigény 1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47560" y="1827000"/>
            <a:ext cx="74674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sa ki az alábbi adatokkal rendelkező épület nettó fűtési energiaigényé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adato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 1200 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űtött alapterületű, 3480 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érfogatú irodaépület központi szellőző berendezése η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65 hatásfokú hővisszanyerővel van felszerelve. A szellőzőberendezés heti 60 órát üzemel, a szellőzés működésekor a légcsereszám n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2 1/h, üzemszünetben n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n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3 1/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pület fajlagos hőveszteségtényezője q=0.34 W/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Az épület belső átlaghőmérséklete 20 °C, a fűtési idényre számított egyensúlyi hőmérsékletkülönbség 10 °C, (vegye figyelembe a hőfokhíd és fűtési idény hossz korrekciónál). Az épület szakaszos használat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66"/>
                </a:solidFill>
                <a:latin typeface="Arial"/>
              </a:rPr>
              <a:t>A nettó fűtési energiaigény hővisszanyerővel felszerelt szellőzés figyelembe vételé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80880" y="3276720"/>
                <a:ext cx="83822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V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f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űtési hőfokhíd és a fűtési idény hossz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838080" y="1828800"/>
          <a:ext cx="5869080" cy="36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58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954000" y="2940120"/>
            <a:ext cx="45720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82400" y="19810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H = 68400 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243828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402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5715000"/>
            <a:ext cx="609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z összefüggésbe H, Z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és Z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L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ezredrészét kell behelyettesí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324480" y="3809880"/>
                <a:ext cx="2552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22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6172200" y="31240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égtechnikai rendszer működéi ide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66"/>
                </a:solidFill>
                <a:latin typeface="Arial"/>
              </a:rPr>
              <a:t>A szakaszos üzem és a belső hőnyereség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43000" y="2438280"/>
          <a:ext cx="7270920" cy="210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727092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280" y="3886200"/>
            <a:ext cx="83844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29400" y="3755880"/>
            <a:ext cx="685800" cy="2286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86640" y="3755880"/>
            <a:ext cx="685800" cy="2286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nettó fűtési energiaigén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88960" y="3314880"/>
                <a:ext cx="84232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480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64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64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990720" y="4495680"/>
                <a:ext cx="57466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00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142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Wh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ttó fűtési energiaigény 2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7560" y="1827000"/>
            <a:ext cx="74674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sa ki az alábbi adatokkal rendelkező épület nettó fűtési energiaigényé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adato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 1200 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űtött alapterületű, 3480 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érfogatú irodaépület központi szellőző berendezésének befújt levegő hőmérséklete t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e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2 °C. A szellőzőberendezés heti 60 órát üzemel, a szellőzés működésekor a légcsereszám n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2 1/h, üzemszünetben n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n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3 1/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pület fajlagos hőveszteségtényezője q=0.34 W/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Az épület belső átlaghőmérséklete 20 °C, a fűtési idényre számított egyensúlyi hőmérsékletkülönbség 10 °C, (vegye figyelembe a hőfokhíd és fűtési idény hossz korrekciónál). Az épület szakaszos használat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jlagos hőveszteségtényező ellenőrzés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nőrizze, hogy az alábbi adatokkal rendelkező lakóépület megfelel-e a fajlagos hőveszteségtényező követelményének! (egyszerűsített számítás sugárzási nyereségek számítása nélkü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hűlő felületek (A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]) és a r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eg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i hőátbocsátási tényezők (U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lokzat: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0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lokzati fal (hőszigeteletlen):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0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 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lokzati üvegezett nyílászárók: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0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ostető: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4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cefödém (alsó oldali hőszigeteléssel):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5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őhidak hossza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lokzati fal: 570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ostető: 90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űtött épülettérfogat: V = 2800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nettó fűtési energiaigény léghevítővel felszerelt szellőzés figyelembe vételé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57200" y="3429000"/>
                <a:ext cx="8367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V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f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f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űtési hőfokhíd és a fűtési idény hossz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838080" y="1828800"/>
          <a:ext cx="5869080" cy="36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58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954000" y="2940120"/>
            <a:ext cx="45720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2400" y="19810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H = 68400 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43828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402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5715000"/>
            <a:ext cx="609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z összefüggésbe H, Z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és Z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L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ezredrészét kell behelyettesí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324480" y="3809880"/>
                <a:ext cx="2552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22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6172200" y="31240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égtechnikai rendszer működéi ide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66"/>
                </a:solidFill>
                <a:latin typeface="Arial"/>
              </a:rPr>
              <a:t>A szakaszos üzem és a belső hőnyereség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43000" y="2438280"/>
          <a:ext cx="7270920" cy="210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727092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52280" y="3886200"/>
            <a:ext cx="83844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3755880"/>
            <a:ext cx="685800" cy="2286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86640" y="3755880"/>
            <a:ext cx="685800" cy="2286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nettó fűtési energiaigén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447920" y="2057400"/>
                <a:ext cx="6858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480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64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52480" y="3200400"/>
                <a:ext cx="6616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480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6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00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23880" y="4572000"/>
                <a:ext cx="518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16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Wh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Egyensúlyi hőmérsékletkülönbség, fűtési hőfokhíd és a fűtési idény hossz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47560" y="1827000"/>
            <a:ext cx="74674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ározza meg az alábbi adatok mellett a számításban figyelembe veendő fűtési hőfokhíd értékét és a fűtési idény hosszá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pület főbb adata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ltetése: Lakóépül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ület besorolása: nehéz szerkezet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űtött alapterület: 1000 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lmagasság 2.7 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tlagos belső hőmérséklet 20 °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ak: É-i tájolással 20 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-i tájolással 24 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-i és Ny-i tájolással 64 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ak hőátbocsátási tényező: U=1.6 W/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összes sugárzás átbocsátó képesség: 0.6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tó: 2.4 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=1.8 W/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lső fal: 310 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=0.41 W/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hőhíd korrekció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ajjal érintkező padló: kerület l=140 m, Ψ=1.15 W/m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lásfödém: 1000 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=0.22 W/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hőhíd korrekció 10%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A szerkezetek veszteségténye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ző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820800" y="3048120"/>
                <a:ext cx="80359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U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1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U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r>
                              <m:t xml:space="preserve">Ψ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828800" y="2971800"/>
            <a:ext cx="1752480" cy="4572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259092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la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93960" y="2971800"/>
            <a:ext cx="784440" cy="4572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25909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j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97560" y="2971800"/>
            <a:ext cx="1812600" cy="4572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259092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40480" y="2971800"/>
            <a:ext cx="2298600" cy="4572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259092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lásföd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14680" y="3809880"/>
            <a:ext cx="1523880" cy="4572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76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lajon lévő padl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02400" y="3581280"/>
            <a:ext cx="2666880" cy="1016280"/>
            <a:chOff x="5702400" y="3581280"/>
            <a:chExt cx="2666880" cy="1016280"/>
          </a:xfrm>
        </p:grpSpPr>
        <p:sp>
          <p:nvSpPr>
            <p:cNvPr id="284" name=""/>
            <p:cNvSpPr/>
            <p:nvPr/>
          </p:nvSpPr>
          <p:spPr>
            <a:xfrm flipH="1" flipV="1">
              <a:off x="6159600" y="36576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02400" y="358128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59800" y="358128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454880" y="36576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20440" y="4229280"/>
              <a:ext cx="16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f0000"/>
                  </a:solidFill>
                  <a:latin typeface="Times New Roman"/>
                </a:rPr>
                <a:t>Hőhíd korrek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315920" y="3580920"/>
            <a:ext cx="1351080" cy="1710000"/>
            <a:chOff x="7315920" y="3580920"/>
            <a:chExt cx="1351080" cy="1710000"/>
          </a:xfrm>
        </p:grpSpPr>
        <p:sp>
          <p:nvSpPr>
            <p:cNvPr id="290" name=""/>
            <p:cNvSpPr/>
            <p:nvPr/>
          </p:nvSpPr>
          <p:spPr>
            <a:xfrm flipV="1">
              <a:off x="8610480" y="358092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920" y="464832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Hőmérsék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korrek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sugárzási energiahoza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523880" y="1905120"/>
                <a:ext cx="26164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ü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1516320" y="2590920"/>
            <a:ext cx="55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héz szerkezetű épületnél a hasznosítási tényező ε=0,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600200" y="3124080"/>
          <a:ext cx="6095880" cy="176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60958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380880" y="4038480"/>
            <a:ext cx="83844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83280" y="3936960"/>
            <a:ext cx="1371600" cy="2286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523880" y="4965840"/>
                <a:ext cx="70866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1526760" y="5562720"/>
            <a:ext cx="626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pületben nincsen üvegház, Trombe-fal stb. ezért Q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id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W/K.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gyensúlyi hőmérsékletkülönbsé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447920" y="1828800"/>
                <a:ext cx="5562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Ψ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V</m:t>
                                </m:r>
                              </m:e>
                            </m:nary>
                          </m:e>
                        </m:nary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°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476360" y="5410080"/>
                <a:ext cx="7107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°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1219320" y="3124080"/>
          <a:ext cx="7270560" cy="210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727056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228600" y="434340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4229280"/>
            <a:ext cx="685800" cy="2286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46240" y="4229280"/>
            <a:ext cx="685800" cy="2286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hőfokhíd és a fűtési idény hossz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38080" y="1828800"/>
          <a:ext cx="5869080" cy="36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58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90720" y="2438280"/>
            <a:ext cx="45720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666880"/>
            <a:ext cx="45720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665360" y="5486400"/>
                <a:ext cx="6649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03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82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K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40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21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7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űtési rendszer fajlagos energiaigény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94920" y="1827000"/>
            <a:ext cx="7620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sa ki az alábbi adatokkal rendelkező épületnél a fűtési rendszer fajlagos energiaigényé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adato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 195 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űtött alapterületű épület fűtési energiáját 60%-ban alacsonyhőmérsékletű gázkazán és 40%-ban szabályozással ellátott fatüzelésű kazán fedezi. Az épület nettó fűtési energiaigénye 120.5 kWh/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 fűtési rendszer 70/55 °C hőfoklépcsőjű, termosztatikus szelepekkel (2K arányossági sávval) felszerelt kétcsöves radiátoros fűtés, fordulatszám szabályozású szivattyúval. A kazánok az épület alatti fűtetlen alagsorban vannak elhelyezve, itt haladnak az alapvezetékek is. A rendszer puffertárolóval nem rendelkezi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z épület geometriai jellemzőjének és a fajlagos hőveszteségtényező követelményértékének számítás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057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pület geometriai jellemzőjének szám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701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jlagos hőveszteségtényező követelményérté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2514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hűlő összfelület: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510 + 240 +240 = 990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29718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V = 990/2800 = 0,3536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257800"/>
            <a:ext cx="70866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86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8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V =  0,086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8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536 =  0,220 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191120"/>
            <a:ext cx="6019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V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/V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86 + 0,38 (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V)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V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58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zámítási összefüggé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838080" y="3124080"/>
                <a:ext cx="7848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779480" y="5218200"/>
          <a:ext cx="5916600" cy="14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5218200"/>
                    <a:ext cx="591660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66"/>
                </a:solidFill>
                <a:latin typeface="Arial"/>
              </a:rPr>
              <a:t>A hőtermelők adata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219320" y="1523880"/>
          <a:ext cx="5916600" cy="293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523880"/>
                    <a:ext cx="591660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066680" y="4572000"/>
          <a:ext cx="5916600" cy="625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572000"/>
                    <a:ext cx="59166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685800" y="274320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2654280"/>
            <a:ext cx="685800" cy="1652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2654280"/>
            <a:ext cx="685800" cy="1778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04512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5969160"/>
            <a:ext cx="685800" cy="177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487980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57600" y="4791240"/>
            <a:ext cx="685800" cy="177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z elosztás fajlagos veszteség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3467160"/>
            <a:ext cx="83844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143000" y="2286000"/>
          <a:ext cx="591660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59166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762360" y="3381480"/>
            <a:ext cx="685800" cy="1778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1523880" y="2133720"/>
          <a:ext cx="5916600" cy="331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591660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keringtetés fajlagos veszteség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368604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70280" y="3591000"/>
            <a:ext cx="457200" cy="1904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600200" y="1905120"/>
          <a:ext cx="5916600" cy="434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59166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szabályozás pontatlansága miatti vesztesé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20040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29200" y="3022560"/>
            <a:ext cx="457200" cy="1904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2133720" y="3351240"/>
          <a:ext cx="6933960" cy="20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1240"/>
                    <a:ext cx="693396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hőtárolás fajlagos vesztesége és a primer energia átalakítási tényező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65320" y="365616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40160" y="3529080"/>
            <a:ext cx="457200" cy="1904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65320" y="401148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3913200"/>
            <a:ext cx="457200" cy="1904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65320" y="492588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40160" y="4824360"/>
            <a:ext cx="457200" cy="1904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1905120"/>
            <a:ext cx="65692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őtároló nincs, ezért annak fajlagos energiaigénye q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,t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kWh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és segédenergia igénye E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T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kWh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fűtési rendszer fajlagos energiaigény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447920" y="2209680"/>
                <a:ext cx="7162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209680" y="2895480"/>
                <a:ext cx="54104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3962520"/>
                <a:ext cx="3505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MV rendszer fajlagos energiaigény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1827000"/>
            <a:ext cx="7620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sa ki az alábbi adatokkal rendelkező épületnél a HMV rendszer fajlagos energiaigényé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adato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 195 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űtött alapterületű lakóépület használati melegvizét 60 %-ban napkollektor és 40 %-ban állandó hőmérsékletű gázkazán fedezi. A kazán és a HMV közös indirekt tárolója az épület alatti fűtetlen alagsorban vannak elhelyezve, itt haladnak az alapvezetékek is. A rendszer cirkulációs vezetékkel rendelkezik. A napkollektoros rendszer fajlagos villamosenergia fogyasztása E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,5 kWh/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zámítási összefüggé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838080" y="3200400"/>
                <a:ext cx="8088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MV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M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MV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MV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Wh/m2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600200" y="1854360"/>
          <a:ext cx="5916600" cy="31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54360"/>
                    <a:ext cx="5916600" cy="31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66"/>
                </a:solidFill>
                <a:latin typeface="Arial"/>
              </a:rPr>
              <a:t>A hőtermelők adata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23856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2440" y="3124080"/>
            <a:ext cx="533520" cy="2286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22640" y="3124080"/>
            <a:ext cx="685800" cy="2286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32080" y="5067360"/>
            <a:ext cx="67975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pkollektor teljesítménytényezője érdektelen a nullával való szorzás miatt, C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elektromos segédenergia igénye az alapadatok szerint E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5 kWh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66"/>
                </a:solidFill>
                <a:latin typeface="Arial"/>
              </a:rPr>
              <a:t>Az épület hőveszteségtényezőjének számítása a sugárzási nyereségek számítása nélkü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133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495680"/>
            <a:ext cx="70866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 hőhidak hatását kifejező korrekciós tényezővel (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módosított rétegtervi hőátbocsátási tényező: U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U (1 +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9718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el egyszerűsített számítás a feladat, az összefüggés így módosu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733920"/>
            <a:ext cx="2819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676520" y="1752480"/>
          <a:ext cx="5916600" cy="22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91660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z elosztás fajlagos vesztesége, a cirkuláció segédenergia igény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297180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2870280"/>
            <a:ext cx="685800" cy="1778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676520" y="4268880"/>
          <a:ext cx="5916600" cy="241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268880"/>
                    <a:ext cx="5916600" cy="24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762120" y="510552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73320" y="5016600"/>
            <a:ext cx="685800" cy="1778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hőtárolás fajlagos vesztesége és a primer energia átalakítási tényező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981080" y="2057400"/>
          <a:ext cx="5916600" cy="332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591660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1066680" y="3645000"/>
            <a:ext cx="83844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32120" y="3530520"/>
            <a:ext cx="457200" cy="1904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HMV rendszer fajlagos energiaigény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371600" y="2209680"/>
                <a:ext cx="6858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MV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362320" y="2895480"/>
                <a:ext cx="41907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371600" y="4195800"/>
                <a:ext cx="35053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M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égtechnikai rendszer fajlagos energiaigény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054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mítsa ki az alábbi adatokkal rendelkező épületnél a légtechnikai rendszer fajlagos energiaigényé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lapadatok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gy 2400 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fűtött térfogatú, 800 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fűtött alapterületű irodaépület szellőző rendszere használati időben n=2 1/h légcsereszámmal üzemel. A befúvó rendszer áramlási ellenállása 450 Pa, az elszívó rendszeré 250 Pa. A befúvó légcsatorna 25 m hosszúságú, NA 800 mm méretű szakasza a fűtetlen padláson halad keresztül. A légcsatorna 20 mm hőszigeteléssel rendelkezik.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szellőzőrendszer hétfőtől péntekig napi 14 órát üzemel, szombaton és vasárnap ki van kapcsolva. A befújt levegő hőmérséklete 24 °C, központilag szabályozva, az épület átlagos belső hőmérséklet 20°C. A szellőző rendszer ηr=0,6 hatásfokú hővisszanyerővel rendelkezik. A kalorifer fűtővizét az épület alatti fűtetlen alagsorban elhelyezett hagyományos kazán állítja elő földgáz energiahordozóból. Ugyanez a kazán szolgálja ki a fűtési rendszert, ezért nem kell ismételten a segédenergia felhasználással számol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zámítási összefüggé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39640" y="3357720"/>
                <a:ext cx="80582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z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EN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égtechnika nettó energiaigény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371600" y="1905120"/>
                <a:ext cx="7292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371600" y="4876920"/>
                <a:ext cx="66294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,6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640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Wh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295280" y="2590920"/>
            <a:ext cx="7305840" cy="1057320"/>
            <a:chOff x="1295280" y="2590920"/>
            <a:chExt cx="7305840" cy="1057320"/>
          </a:xfrm>
        </p:grpSpPr>
        <p:sp>
          <p:nvSpPr>
            <p:cNvPr id="407" name=""/>
            <p:cNvSpPr/>
            <p:nvPr/>
          </p:nvSpPr>
          <p:spPr>
            <a:xfrm>
              <a:off x="1295280" y="2590920"/>
              <a:ext cx="73058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űködési idő fűtési idénybe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1828800" y="2971800"/>
                  <a:ext cx="53276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T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400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3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ór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333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ezerór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"/>
          <p:cNvGrpSpPr/>
          <p:nvPr/>
        </p:nvGrpSpPr>
        <p:grpSpPr>
          <a:xfrm>
            <a:off x="1295280" y="3505320"/>
            <a:ext cx="6624720" cy="1114200"/>
            <a:chOff x="1295280" y="3505320"/>
            <a:chExt cx="6624720" cy="1114200"/>
          </a:xfrm>
        </p:grpSpPr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1752480" y="3886200"/>
                  <a:ext cx="522792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LT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5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50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ór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5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ezerór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"/>
            <p:cNvSpPr/>
            <p:nvPr/>
          </p:nvSpPr>
          <p:spPr>
            <a:xfrm>
              <a:off x="1295280" y="3505320"/>
              <a:ext cx="66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Éves működés időtartam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ntilátor villamos energiaigény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7305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ndszer térfogatáram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3581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ilátorok összhatásfo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498680" y="1628640"/>
                <a:ext cx="50544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N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e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523880" y="2971800"/>
                <a:ext cx="5639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0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0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17" name=""/>
          <p:cNvGraphicFramePr/>
          <p:nvPr/>
        </p:nvGraphicFramePr>
        <p:xfrm>
          <a:off x="1600200" y="4191120"/>
          <a:ext cx="5916600" cy="111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191120"/>
                    <a:ext cx="591660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523880" y="5410080"/>
                <a:ext cx="68580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N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00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1295280" y="4838760"/>
            <a:ext cx="83844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4749840"/>
            <a:ext cx="457200" cy="1904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66"/>
                </a:solidFill>
                <a:latin typeface="Arial"/>
              </a:rPr>
              <a:t>Légcsatorna hőleadás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27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égcsatorna keresztmetsze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50532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áramlási sebessé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397160" y="2260440"/>
                <a:ext cx="4775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00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3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447920" y="3962520"/>
                <a:ext cx="41148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8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0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66"/>
                </a:solidFill>
                <a:latin typeface="Arial"/>
              </a:rPr>
              <a:t>Légcsatorna hőleadás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042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ységnyi hosszra vonatkoztatott hőátbocsátási tényező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447920" y="2057400"/>
          <a:ext cx="6526080" cy="26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526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609480" y="3809880"/>
            <a:ext cx="83844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720960"/>
            <a:ext cx="990720" cy="1778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53080" y="358128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kö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3.4 W/m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409760" y="5105520"/>
                <a:ext cx="449748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ö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ö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át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Wh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371600" y="4608360"/>
            <a:ext cx="73915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égcsatorna veszteségtényezője f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=1. (fűtetlen téren halad keresztü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 szabályozás pontatlansága miatti veszteség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981080" y="2133720"/>
          <a:ext cx="5916600" cy="253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59166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90720" y="279396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19640" y="2692440"/>
            <a:ext cx="368280" cy="1778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463760" y="2919240"/>
          <a:ext cx="5790960" cy="17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2919240"/>
                    <a:ext cx="5790960" cy="17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286680" y="3860640"/>
            <a:ext cx="457200" cy="1908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89560" y="4081320"/>
            <a:ext cx="454320" cy="1857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étegtervi hőátbocsátási tényezők korrekciój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5560" y="182880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re jutó hőhíd hossza a fal esetén: 57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m /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1.1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5920" y="2309760"/>
            <a:ext cx="65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re jutó hőhíd hossza a lapostetőre: 9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m / 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160" y="4710240"/>
            <a:ext cx="37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külső fal besorolása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rősen hőhid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160" y="521964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lapostető besorolása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rősen hőhid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azán teljesítménytényezőj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981080" y="1905120"/>
          <a:ext cx="5916600" cy="300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91660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1730880" y="5067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öldgáz primer átalakítási tényezője 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3708360"/>
            <a:ext cx="83844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806560" y="3619440"/>
            <a:ext cx="533520" cy="1904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égtechnikai primer energiaigény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611280" y="2133720"/>
                <a:ext cx="8057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z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EN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050920" y="4659480"/>
                <a:ext cx="3973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85800" y="3200400"/>
                <a:ext cx="78487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640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1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öszönöm megtisztelő figyelmüket!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922320" y="1774800"/>
          <a:ext cx="6087960" cy="48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1774800"/>
                    <a:ext cx="60879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934240" y="3736800"/>
            <a:ext cx="533160" cy="2001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2160" y="3352680"/>
            <a:ext cx="16527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r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κ=0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.45*(1+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.602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Korrekciós értékek, a módosított hőátbocsátási tényezők számítása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34240" y="4349880"/>
            <a:ext cx="533160" cy="1998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5800680"/>
            <a:ext cx="533520" cy="2001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4240" y="4343400"/>
            <a:ext cx="18115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Lapostetőr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κ=0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u-HU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=0.24*(1+0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=0.288 W/m</a:t>
            </a:r>
            <a:r>
              <a:rPr b="0" lang="hu-H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3160" y="5334120"/>
            <a:ext cx="1992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ncefödém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κ=0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.45*(1+0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.495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hőveszteségtényező számított értéke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5760" y="3328920"/>
            <a:ext cx="6442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(U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fal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al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U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tető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ető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U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pif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if 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U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nyz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yz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V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0600" y="3900600"/>
            <a:ext cx="74912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0,602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288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75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+ 1,50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)/2800 = 0,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56480" y="4662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rték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37360" y="5195880"/>
            <a:ext cx="482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el q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,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20),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pület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meg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el.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7760" y="167652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őmérsékleti korrekció a pincefödé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2138400"/>
            <a:ext cx="4513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</a:rPr>
              <a:t>pif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0,5*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pif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= 0,5*0,495 = 0,2475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45320" y="283356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hőveszteségtényező számított érté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lszerkezet hőátbocsátási tényezőjének számítása 1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054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sa ki az alábbi rétegrendű falszerkezet hőátbocsátási tényezőjét! Alkalmazza a szabványban előírt korrekciós értékeket a hővezetési tényezőknél! Vegye figyelembe a szerkezetben megadott hőhidak hatását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adatok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-30 falazatból készült fal polisztirol külső szigetelése műanyag dübelekkel van rögzítve. 8 db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mm átmérőjű dübel kerül alkalmazásra, a műanyag hővezetési tényezője 0,14 W/m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lazat rétegei kívülről befelé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m vakolatrendszer, λ=0,8 W/m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cm polisztirolhab, λ=0,04 W/m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cm B30 tégla falazat, λ=0,64 W/m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m mészvakolat, λ=0,81 W/m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ülső hőátadási tényező α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4 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a belső hőátadási tényező α</a:t>
            </a:r>
            <a:r>
              <a:rPr b="0" lang="hu-H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 W/m</a:t>
            </a:r>
            <a:r>
              <a:rPr b="0" lang="hu-H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71600" y="4495680"/>
                <a:ext cx="51814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übe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226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71600" y="5410080"/>
                <a:ext cx="66214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i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redő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i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i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κ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üb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üb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i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ü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6172200"/>
                <a:ext cx="730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26</m:t>
                        </m:r>
                      </m:e>
                    </m:d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22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682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1371600" y="1676520"/>
            <a:ext cx="6095520" cy="2666880"/>
            <a:chOff x="1371600" y="1676520"/>
            <a:chExt cx="6095520" cy="2666880"/>
          </a:xfrm>
        </p:grpSpPr>
        <p:grpSp>
          <p:nvGrpSpPr>
            <p:cNvPr id="139" name=""/>
            <p:cNvGrpSpPr/>
            <p:nvPr/>
          </p:nvGrpSpPr>
          <p:grpSpPr>
            <a:xfrm>
              <a:off x="1376640" y="1677600"/>
              <a:ext cx="6084720" cy="2664000"/>
              <a:chOff x="1376640" y="1677600"/>
              <a:chExt cx="6084720" cy="2664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376640" y="1677600"/>
                <a:ext cx="5000760" cy="392400"/>
                <a:chOff x="1376640" y="1677600"/>
                <a:chExt cx="5000760" cy="392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445760" y="1677600"/>
                  <a:ext cx="48621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nyag és beépítési mó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376640" y="1677600"/>
                  <a:ext cx="500076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377760" y="1677600"/>
                <a:ext cx="1083600" cy="392400"/>
                <a:chOff x="6377760" y="1677600"/>
                <a:chExt cx="1083600" cy="392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47600" y="1677600"/>
                  <a:ext cx="94428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orrekciós tényez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77760" y="1677600"/>
                  <a:ext cx="108360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376640" y="2070000"/>
                <a:ext cx="5000760" cy="270000"/>
                <a:chOff x="1376640" y="2070000"/>
                <a:chExt cx="5000760" cy="270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445760" y="2070000"/>
                  <a:ext cx="4862160" cy="27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olisztirol hab, amelyre rávakolnak vagy rábetonoznak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76640" y="2070000"/>
                  <a:ext cx="5000760" cy="27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377760" y="2070000"/>
                <a:ext cx="1083600" cy="270000"/>
                <a:chOff x="6377760" y="2070000"/>
                <a:chExt cx="1083600" cy="270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447600" y="2070000"/>
                  <a:ext cx="944280" cy="27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4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377760" y="2070000"/>
                  <a:ext cx="1083600" cy="27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376640" y="2340000"/>
                <a:ext cx="5000760" cy="270000"/>
                <a:chOff x="1376640" y="2340000"/>
                <a:chExt cx="5000760" cy="270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445760" y="2340000"/>
                  <a:ext cx="4862160" cy="27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rlitbeton (</a:t>
                  </a:r>
                  <a:r>
                    <a:rPr b="0" lang="hu-HU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</a:t>
                  </a:r>
                  <a:r>
                    <a:rPr b="0" lang="hu-HU" sz="10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00 kg/m</a:t>
                  </a:r>
                  <a:r>
                    <a:rPr b="0" lang="hu-HU" sz="1000" spc="-1" strike="noStrike" baseline="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r>
                    <a:rPr b="0" lang="hu-H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, amelyre rábetonoznak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376640" y="2340000"/>
                  <a:ext cx="5000760" cy="27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377760" y="2340000"/>
                <a:ext cx="1083600" cy="270000"/>
                <a:chOff x="6377760" y="2340000"/>
                <a:chExt cx="1083600" cy="270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447600" y="2340000"/>
                  <a:ext cx="944280" cy="27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5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77760" y="2340000"/>
                  <a:ext cx="1083600" cy="27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376640" y="2610360"/>
                <a:ext cx="5000760" cy="270000"/>
                <a:chOff x="1376640" y="2610360"/>
                <a:chExt cx="5000760" cy="270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445760" y="2610360"/>
                  <a:ext cx="4862160" cy="27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tumoperlit (</a:t>
                  </a:r>
                  <a:r>
                    <a:rPr b="0" lang="hu-HU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</a:t>
                  </a:r>
                  <a:r>
                    <a:rPr b="0" lang="hu-HU" sz="10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00 kg/m</a:t>
                  </a:r>
                  <a:r>
                    <a:rPr b="0" lang="hu-HU" sz="1000" spc="-1" strike="noStrike" baseline="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r>
                    <a:rPr b="0" lang="hu-H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, amelyre rábetonoznak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76640" y="2610360"/>
                  <a:ext cx="5000760" cy="27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377760" y="2610360"/>
                <a:ext cx="1083600" cy="270000"/>
                <a:chOff x="6377760" y="2610360"/>
                <a:chExt cx="1083600" cy="270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447600" y="2610360"/>
                  <a:ext cx="944280" cy="27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5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377760" y="2610360"/>
                  <a:ext cx="1083600" cy="27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376640" y="2880360"/>
                <a:ext cx="5000760" cy="208440"/>
                <a:chOff x="1376640" y="2880360"/>
                <a:chExt cx="5000760" cy="208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445760" y="2880360"/>
                  <a:ext cx="486216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xpanzit, amelyre rávakolnak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376640" y="2880360"/>
                  <a:ext cx="500076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377760" y="2880360"/>
                <a:ext cx="1083600" cy="208440"/>
                <a:chOff x="6377760" y="2880360"/>
                <a:chExt cx="1083600" cy="2084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447600" y="2880360"/>
                  <a:ext cx="94428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2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377760" y="2880360"/>
                  <a:ext cx="108360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376640" y="3089160"/>
                <a:ext cx="5000760" cy="208440"/>
                <a:chOff x="1376640" y="3089160"/>
                <a:chExt cx="5000760" cy="208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45760" y="3089160"/>
                  <a:ext cx="486216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olisztirol hab két falazott réteg közöt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376640" y="3089160"/>
                  <a:ext cx="500076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377760" y="3089160"/>
                <a:ext cx="1083600" cy="208440"/>
                <a:chOff x="6377760" y="3089160"/>
                <a:chExt cx="1083600" cy="2084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47600" y="3089160"/>
                  <a:ext cx="94428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377760" y="3089160"/>
                  <a:ext cx="108360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376640" y="3297960"/>
                <a:ext cx="5000760" cy="208440"/>
                <a:chOff x="1376640" y="3297960"/>
                <a:chExt cx="5000760" cy="208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445760" y="3297960"/>
                  <a:ext cx="486216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solyth két falazott réteg közöt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376640" y="3297960"/>
                  <a:ext cx="500076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377760" y="3297960"/>
                <a:ext cx="1083600" cy="208440"/>
                <a:chOff x="6377760" y="3297960"/>
                <a:chExt cx="1083600" cy="2084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447600" y="3297960"/>
                  <a:ext cx="94428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377760" y="3297960"/>
                  <a:ext cx="108360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376640" y="3506760"/>
                <a:ext cx="5000760" cy="208440"/>
                <a:chOff x="1376640" y="3506760"/>
                <a:chExt cx="5000760" cy="208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45760" y="3506760"/>
                  <a:ext cx="486216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rlit ömlesztve, két falazott réteg közöt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376640" y="3506760"/>
                  <a:ext cx="500076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377760" y="3506760"/>
                <a:ext cx="1083600" cy="208440"/>
                <a:chOff x="6377760" y="3506760"/>
                <a:chExt cx="1083600" cy="2084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447600" y="3506760"/>
                  <a:ext cx="94428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3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377760" y="3506760"/>
                  <a:ext cx="108360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376640" y="3715560"/>
                <a:ext cx="5000760" cy="208440"/>
                <a:chOff x="1376640" y="3715560"/>
                <a:chExt cx="5000760" cy="208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445760" y="3715560"/>
                  <a:ext cx="486216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oliuretán (40 kg/m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kiszellőztetett légrétegb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376640" y="3715560"/>
                  <a:ext cx="500076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377760" y="3715560"/>
                <a:ext cx="1083600" cy="208440"/>
                <a:chOff x="6377760" y="3715560"/>
                <a:chExt cx="1083600" cy="2084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447600" y="3715560"/>
                  <a:ext cx="94428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2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377760" y="3715560"/>
                  <a:ext cx="108360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376640" y="3924360"/>
                <a:ext cx="5000760" cy="208440"/>
                <a:chOff x="1376640" y="3924360"/>
                <a:chExt cx="5000760" cy="2084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445760" y="3924360"/>
                  <a:ext cx="486216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zofen kiszellőztetett légrétegb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376640" y="3924360"/>
                  <a:ext cx="500076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377760" y="3924360"/>
                <a:ext cx="1083600" cy="208440"/>
                <a:chOff x="6377760" y="3924360"/>
                <a:chExt cx="1083600" cy="208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447600" y="3924360"/>
                  <a:ext cx="94428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2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377760" y="3924360"/>
                  <a:ext cx="108360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376640" y="4133160"/>
                <a:ext cx="5000760" cy="208440"/>
                <a:chOff x="1376640" y="4133160"/>
                <a:chExt cx="5000760" cy="2084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445760" y="4133160"/>
                  <a:ext cx="486216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IKECELL kiszellőztetett légrétegb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376640" y="4133160"/>
                  <a:ext cx="500076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377760" y="4133160"/>
                <a:ext cx="1083600" cy="208440"/>
                <a:chOff x="6377760" y="4133160"/>
                <a:chExt cx="1083600" cy="2084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447600" y="4133160"/>
                  <a:ext cx="94428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5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377760" y="4133160"/>
                  <a:ext cx="1083600" cy="20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" name=""/>
            <p:cNvSpPr/>
            <p:nvPr/>
          </p:nvSpPr>
          <p:spPr>
            <a:xfrm>
              <a:off x="1371600" y="1676520"/>
              <a:ext cx="6095520" cy="266688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47920" y="2057400"/>
            <a:ext cx="3429000" cy="3049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2057400"/>
            <a:ext cx="609480" cy="3049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8600" y="19810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κ=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66"/>
                </a:solidFill>
                <a:latin typeface="Arial"/>
              </a:rPr>
              <a:t>A dübelek és a rávakolás hatásának figyelembe vétele a hővezetési tényező korrekciójával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5:55:07Z</dcterms:created>
  <dc:creator>Baumann Mihály</dc:creator>
  <dc:description/>
  <dc:language>en-US</dc:language>
  <cp:lastModifiedBy>Baumann József</cp:lastModifiedBy>
  <dcterms:modified xsi:type="dcterms:W3CDTF">2009-04-10T07:45:13Z</dcterms:modified>
  <cp:revision>56</cp:revision>
  <dc:subject/>
  <dc:title>Épületenergetikai szakértők vizsgáztatása</dc:title>
</cp:coreProperties>
</file>