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6A6A-3470-4F58-B149-47A920D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DBF5-D8C5-4829-8B80-D6B214E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678E-3318-4F28-9419-D7956BB5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C660-CD6E-4E84-A55A-F41BD95C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7E1-AB1A-4DA3-8924-B0E9696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836B-194E-43F3-9FFD-CA708AF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3434-C932-4C28-9E1E-0606B9C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37EC-F073-4925-B2DE-CD9E17DB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9BF-F038-44EC-9405-18C88C46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0B35-4A22-478F-8D9A-074A799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9B87-2ED5-44C7-B692-A80BC156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7239-2A51-4630-8B7A-DE3BA772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F71-614F-44C6-BDA1-5B853A6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C462-6C48-4A0D-B2E7-D0F51A1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16C8-6961-4A5B-B4A9-6860557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C6DF-24C9-4470-A8F3-7E507864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CB6C-6194-43A7-9BFC-FE34A91D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5269-1ED8-461B-88A9-AB11A68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92BC-DE4D-4FC7-B749-0E8F9F2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49AC-CCB4-4312-86A7-071E228D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A434-F32A-49F0-BF39-1D45F0C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D68B-41C1-4543-AB7E-478E5F2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CF13-95F6-4B20-BDFA-8075258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0F8F-90B9-47D7-AA3A-84EE4C6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AU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D302-7C75-4466-9822-E032D554FC7A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AU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019-E0D6-4F35-94C4-41652D9E346E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33D-BDC1-4A35-B23B-66DAFD2ACB00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9920" y="1773000"/>
            <a:ext cx="6004080" cy="23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ffffff"/>
                </a:solidFill>
                <a:latin typeface="Arial"/>
              </a:rPr>
              <a:t>Az új épületenergetikai 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Arial"/>
              </a:rPr>
              <a:t>szabályozás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Baumann Józse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1" lang="hu-HU" sz="2900" spc="-1" strike="noStrike">
                <a:solidFill>
                  <a:srgbClr val="000000"/>
                </a:solidFill>
                <a:latin typeface="Arial"/>
              </a:rPr>
              <a:t>BAUSOFT Pécsvárad Kf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5C9-0981-4306-894D-186F71B1E130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Fajlagos hőveszteségtényező követelményértéke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/V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0,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0,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0,3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/V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1,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0,086 + 0,38 (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/V) W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/V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1,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0,5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h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  = az épülethatároló szerkezetek összfelü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   = fűtött épülettérfogat (fűtött légtérfog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860-7022-4048-A54F-516438196363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337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EB6-C0FD-4E92-914C-1D3AFAB0D061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08200" y="2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50920" y="512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éves nettó fűtési energiaigény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kWh/a] számítás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30320" y="1022400"/>
                <a:ext cx="8847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Text Box 6"/>
          <p:cNvSpPr/>
          <p:nvPr/>
        </p:nvSpPr>
        <p:spPr>
          <a:xfrm>
            <a:off x="179280" y="1989000"/>
            <a:ext cx="87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űsített eljárásban a fűtési hőfokhíd konvencionális értéke (72 000 órafok) és az ehhez tartozó fűtési idény (4400 óra) vehető számítás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szletes számítás esetén érdemes meghatározni a fűtési idény hosszát és a hőfokhidat az egyensúlyi hőmérséklet-különbség alapjá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9120" y="467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468360" y="4149720"/>
                <a:ext cx="7886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Ψ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179280" y="5734080"/>
            <a:ext cx="87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nek függvényében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rtéke táblázatosan és diagramon adot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2E2-FFC3-4F4A-B634-43DBDA547B3D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776160" y="1954080"/>
                <a:ext cx="59356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nyá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nyá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Ψ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yár</m:t>
                            </m:r>
                          </m:sub>
                        </m:sSub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5"/>
          <p:cNvSpPr/>
          <p:nvPr/>
        </p:nvSpPr>
        <p:spPr>
          <a:xfrm>
            <a:off x="179280" y="337356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2-3 fokot meghaladó átlagos hőmérsékletkülönbség óvatosságra int: ha ennek oka nem a belső hőterhelés, árnyékvető vagy külső árnyékoló alkalmazása javaso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esetben jó hatású az intenzív természetes szellőztetés, különösen az éjszakai-hajnali órákban – ezt a mellékletben megadott légcsereszámmal ellenőrizendő (egyszerű ökölszabály alapján becsült értéke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Nyári túlmelegedé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6CAB-D5A3-475A-A7B4-88350C8AF9C0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űtés primer energiaigén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623000" cy="662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539640" y="2133720"/>
            <a:ext cx="7921800" cy="56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űtés fajlagos nettó energiaigénye, kWh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</a:rPr>
              <a:t>f,h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llesztés pontatlanságából adódó veszteség, kWh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</a:rPr>
              <a:t>f,v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osztóvezeték fajlagos vesztesége, kWh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</a:rPr>
              <a:t>f,t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őtárolás fajlagos vesztesége, kWh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őtermelő teljesítménytényezője,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hőtermelő által lefedett energiaarány,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primer energia átalakítási tényező,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Sz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eringetés fajlagos segédenergiaigénye,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Wh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T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tárolá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 fajlagos segédenergiaigénye, kWh/m</a:t>
            </a:r>
            <a:r>
              <a:rPr b="0" lang="el-GR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,v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kazánszabályozás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segédenergiaigénye, kWh/m</a:t>
            </a:r>
            <a:r>
              <a:rPr b="0" lang="el-GR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u-HU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imer energia átalakítási tényező,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5A65-F506-43F4-B280-152693D76A29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imer energia átalakítási tényező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124000" y="1916280"/>
          <a:ext cx="4043520" cy="3859200"/>
        </p:xfrm>
        <a:graphic>
          <a:graphicData uri="http://schemas.openxmlformats.org/drawingml/2006/table">
            <a:tbl>
              <a:tblPr/>
              <a:tblGrid>
                <a:gridCol w="3427560"/>
                <a:gridCol w="61596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ktromos ára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úcson kívüli elektromos ár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öldgá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üzelőola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é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űtőművi távfűté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vfűtés kapcsolt energiatermelé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üzifa, biomass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újul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E5A-E000-487E-99B6-D5493F6F2CB1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azánok teljesítménytényezői és segédenergia igénye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űtött téren kívül elhelyez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981080"/>
          <a:ext cx="8229600" cy="4175280"/>
        </p:xfrm>
        <a:graphic>
          <a:graphicData uri="http://schemas.openxmlformats.org/drawingml/2006/table">
            <a:tbl>
              <a:tblPr/>
              <a:tblGrid>
                <a:gridCol w="1089000"/>
                <a:gridCol w="1673280"/>
                <a:gridCol w="1673280"/>
                <a:gridCol w="174132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eljesítménytényezők </a:t>
                      </a: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</a:t>
                      </a:r>
                      <a:r>
                        <a:rPr b="0" i="1" lang="hu-H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[-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egédenergia</a:t>
                      </a: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q</a:t>
                      </a:r>
                      <a:r>
                        <a:rPr b="0" i="1" lang="hu-H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,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kWh/m</a:t>
                      </a:r>
                      <a:r>
                        <a:rPr b="0" lang="hu-H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lapterül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r>
                        <a:rPr b="0" i="1" lang="hu-H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</a:t>
                      </a: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m</a:t>
                      </a:r>
                      <a:r>
                        <a:rPr b="0" lang="hu-H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Álland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őmérséklet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azá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lacso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őmérséklet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azá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ondenzáció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kazá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ndard használ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1844640"/>
          <a:ext cx="8929800" cy="3475080"/>
        </p:xfrm>
        <a:graphic>
          <a:graphicData uri="http://schemas.openxmlformats.org/drawingml/2006/table">
            <a:tbl>
              <a:tblPr/>
              <a:tblGrid>
                <a:gridCol w="1596960"/>
                <a:gridCol w="463680"/>
                <a:gridCol w="514440"/>
                <a:gridCol w="517320"/>
                <a:gridCol w="1200240"/>
                <a:gridCol w="1201680"/>
                <a:gridCol w="1203480"/>
                <a:gridCol w="1201680"/>
                <a:gridCol w="1030320"/>
              </a:tblGrid>
              <a:tr h="106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 épület rendeltet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é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csere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z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á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 fűt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é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i id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é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yb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h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asználati melegvíz nettó hőener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gény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Wh/m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lágítás ener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gény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Wh/m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lágítási ener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gé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orrekció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zorz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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zakasz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üze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orrekciós szorz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első hő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yereség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átlagos érté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W/m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kóépületek 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8) 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rodaépületek 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ktatási épületek  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3"/>
          <p:cNvSpPr/>
          <p:nvPr/>
        </p:nvSpPr>
        <p:spPr>
          <a:xfrm>
            <a:off x="250920" y="5516640"/>
            <a:ext cx="80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)  Légcsereszám a használati idő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)  Légcsereszám használati időn kívü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)  Átlagos légcsereszám a használati idő figyelembevételé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B40-C854-4F49-8D5A-3A2E72368261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Összesített energetikai jellemző követelményértéke lakóépületekn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/V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0,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1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Wh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0,3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/V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1,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74 + 120*(A/V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Wh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/V </a:t>
            </a: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1,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23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Wh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h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  = az épülethatároló szerkezetek összfelü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   = fűtött épülettérfogat (fűtött légtérfog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7D9-EA63-40D2-87F5-DA3CD1E884A0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370"/>
          <p:cNvGraphicFramePr/>
          <p:nvPr/>
        </p:nvGraphicFramePr>
        <p:xfrm>
          <a:off x="1042920" y="476280"/>
          <a:ext cx="7632720" cy="60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3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76280"/>
                    <a:ext cx="763272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60D2-98ED-4BDD-B60D-645EC31A343D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Tervezési munka szabály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tárca nélküli miniszter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7/2006. (V. 24.) TNM rende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épületek energetikai jellemzőinek meghatározásáró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8112-DB2E-4810-93CF-3380D215CD50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 funkció sze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akó és szállásjellegű ép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odaép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ktatási ép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éb funkciójú ép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Élőláb hely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Dia számának hely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4118-9051-4393-94C1-F7A7F2A05E5A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anúsítás, épület besoro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01"/>
          <p:cNvGraphicFramePr/>
          <p:nvPr/>
        </p:nvGraphicFramePr>
        <p:xfrm>
          <a:off x="684360" y="2349360"/>
          <a:ext cx="433044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2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4330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205" descr="Besorolás"/>
          <p:cNvPicPr/>
          <p:nvPr/>
        </p:nvPicPr>
        <p:blipFill>
          <a:blip r:embed="rId3"/>
          <a:stretch/>
        </p:blipFill>
        <p:spPr>
          <a:xfrm>
            <a:off x="4653000" y="2205000"/>
            <a:ext cx="3951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36D-77FC-4A1C-9CEF-943F70178E73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anúsítás szabály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176/2008. (VI. 30.) Korm. rend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épületek energetikai jellemzőinek tanúsítás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C603-2FC5-4326-BBFC-1F943CBC11B8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szabályozás lényege: 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„integrált” energiamérl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z összesített energetikai jellemző tartalmaz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yereségáramok hasznosított hányad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űtés és a légtechnika termikus fogyasztás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entilátorok, szivattyúk energiafogyasztás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sználati melegvíztermelés energiafogyasztás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ilágítás energiafogyasztását,(lakóépületek esetében n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ktív szoláris és fotovoltaikus rendszerekből származó       nyeresé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pcsolt energiatermelésből származó nyeresé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amennyi téte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mer energiahordozór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átszámí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Élőláb hely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Dia számának hely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2A76-1198-4499-8D21-23D5730C93C3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szabályozás három szint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sített primer energiafogyasztás ne legyen nagyobb, mint  X  kWh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en belül az épület fajlagos hőveszteségtényezője ne legyen nagyobb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 Y  W/m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es határoló- és nyílászáró szerkezetek hőátbocsátási tényezője ne haladja meg az adott szerkezetre előírt határérté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Élőláb hely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B594-F00D-4E2C-BB9C-3D4C6181E48B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340000" y="1700280"/>
          <a:ext cx="4630680" cy="4680000"/>
        </p:xfrm>
        <a:graphic>
          <a:graphicData uri="http://schemas.openxmlformats.org/drawingml/2006/table">
            <a:tbl>
              <a:tblPr/>
              <a:tblGrid>
                <a:gridCol w="3689280"/>
                <a:gridCol w="941400"/>
              </a:tblGrid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pülethatároló szerkeze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hőátbocsátási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ényező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vetelmény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rték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(W/m</a:t>
                      </a:r>
                      <a:r>
                        <a:rPr b="0" lang="hu-HU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ülső f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postető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lásfödé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űtött tetőteret határoló szerkezete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só zárófödém árkád felet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só zárófödém fűtetlen pince felet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lokzati üvegezett nyílászáró (fa vagy PVC keretszerkezettel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lokzati üvegezett nyílászáró (fém keretszerkezettel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lokzati üvegezett nyílászáró, ha névleges felülete kisebb, mint 0,5 m</a:t>
                      </a:r>
                      <a:r>
                        <a:rPr b="0" lang="hu-HU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lokzati üvegf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0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tőfelülvilágít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0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tősík abla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lokzati üvegezetlen kap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0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lokzati, vagy fűtött és fűtetlen terek közötti ajt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0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űtött és fűtetlen terek közötti f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omszédos fűtött épületek közötti f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0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lajjal érintkező fal  0 és -1 m közöt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lajon fekvő padló a kerület mentén 1,5 m széles sávban (a lábazaton elhelyezett azonos ellenállású hőszigeteléssel helyettesíthető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zerkezetek előírt U-érté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973-571D-47FF-BD44-1B3A47D40C76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79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kappa"/>
          <p:cNvPicPr/>
          <p:nvPr/>
        </p:nvPicPr>
        <p:blipFill>
          <a:blip r:embed="rId1"/>
          <a:srcRect l="9527" t="6736" r="9527" b="43785"/>
          <a:stretch/>
        </p:blipFill>
        <p:spPr>
          <a:xfrm>
            <a:off x="539640" y="-177840"/>
            <a:ext cx="813780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64DC-7F0E-4A19-96D6-7E3CCC03CAEA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vonalsűrűség"/>
          <p:cNvPicPr/>
          <p:nvPr/>
        </p:nvPicPr>
        <p:blipFill>
          <a:blip r:embed="rId1"/>
          <a:srcRect l="14290" t="6736" r="4763" b="63992"/>
          <a:stretch/>
        </p:blipFill>
        <p:spPr>
          <a:xfrm>
            <a:off x="0" y="1268280"/>
            <a:ext cx="9144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Élőláb hely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AUS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Dia számának hely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9D0-15EB-4757-B0F4-2B4EC3E0E4CF}" type="slidenum">
              <a:rPr b="0" lang="hu-H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00000" y="1484280"/>
                <a:ext cx="67946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Ψ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5"/>
          <p:cNvSpPr/>
          <p:nvPr/>
        </p:nvSpPr>
        <p:spPr>
          <a:xfrm>
            <a:off x="179280" y="292428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űsítési lehetőség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űtetlen tér egyensúlyi hőmérsékletének számítása helyett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rtékének megadott korrekciós tényezővel való szor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őhidak hatása az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orrekciós szorzójával is kifejezhető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alajba irányuló hőveszteség „vonalmenti k-val” számíthat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enapozás ellenőrzésének elhagyásával „körben észak” sugárzási nyereség számíthat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ugárzási nyereséget kifejező tag elhagy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Fajlagos hőveszteségtényez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4:52:08Z</dcterms:created>
  <dc:creator>Baumann Mihály</dc:creator>
  <dc:description/>
  <dc:language>en-US</dc:language>
  <cp:lastModifiedBy>Baumann József</cp:lastModifiedBy>
  <dcterms:modified xsi:type="dcterms:W3CDTF">2012-03-09T14:49:29Z</dcterms:modified>
  <cp:revision>27</cp:revision>
  <dc:subject/>
  <dc:title>Az új épületenergetikai  szabályozás  számításai</dc:title>
</cp:coreProperties>
</file>